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452-8C8B-4CC9-8579-99446C46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529-09D7-47BE-A1DC-6D629F4E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696-B3C7-44DA-898E-F76A8A72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B44-4439-461B-966F-9D0AB467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2AB-459A-49F6-B62B-F8BA18DF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896-FBE4-4764-B4C7-832810BB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01A-E63E-4E3E-A6E9-4578830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1A8-937E-40AA-AAD3-50FA3BE8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243-AC92-44E0-A85A-87CFC4C2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36F-4142-4CD4-AF18-04E6203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FE6-2225-4B36-832F-7CA30110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521-D638-4DEC-B6FC-260D780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1279-565E-4B05-9B3D-1E381EAC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9280" y="414360"/>
            <a:ext cx="43426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Titles of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Bookman Old Style"/>
              </a:rPr>
              <a:t>The Queen of Heaven and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38520" y="7364520"/>
            <a:ext cx="4984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Please see other side for: 100 titles of Our La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Bookman Old Style"/>
              </a:rPr>
              <a:t>~ ~ ~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Sea of Sor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Virgin most Sorrow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Mother of Sor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Sorrowful and Immaculate Heart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341360" y="1332000"/>
            <a:ext cx="417852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00:56:59Z</dcterms:created>
  <dc:creator> Mike Bizzaro</dc:creator>
  <dc:description/>
  <dc:language>en-US</dc:language>
  <cp:lastModifiedBy>Mike Bizzaro</cp:lastModifiedBy>
  <dcterms:modified xsi:type="dcterms:W3CDTF">2006-06-09T14:04:43Z</dcterms:modified>
  <cp:revision>6</cp:revision>
  <dc:subject/>
  <dc:title>Slide 1</dc:title>
</cp:coreProperties>
</file>